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AFA7-6F7C-4C49-BBE9-E08162F7D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1429-31AD-4D72-80BA-C3C7DC77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7238-5969-4A33-9BDB-15DFAB376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96E4-FA0F-4C6D-BBB6-9863A2879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EC12-8252-4F67-A654-9D56385B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2E04-C510-40A0-A560-E650B9B4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F420-108E-4BF1-8D56-AA4BB181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CD31-E821-4BD3-9B4A-DD861614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C2A7-CF49-4B50-AF46-39C6CD7E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8315-DD67-4340-8BC7-C56D9D15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793B-1D4E-4159-9A7F-B49AD671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1632-2041-4007-958B-55434D60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5E57-74B2-4D79-8775-ADFD92D04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050920" y="0"/>
            <a:ext cx="51357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Unit 7</a:t>
            </a:r>
            <a:endParaRPr b="1" lang="en-US" sz="32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What's the highest mountain </a:t>
            </a:r>
            <a:endParaRPr b="1" lang="en-US" sz="32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in the world?</a:t>
            </a:r>
            <a:endParaRPr b="1" lang="en-US" sz="32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63840" y="3722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050920" y="2637000"/>
            <a:ext cx="4824720" cy="29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Section B 1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2a-2e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05360"/>
            <a:ext cx="30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58000" y="1413000"/>
            <a:ext cx="74977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Why are pandas endangered?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6920" y="2852640"/>
            <a:ext cx="847764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What is one way of saving pandas?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25600" y="2117880"/>
            <a:ext cx="58957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Less forest for pandas to li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05800" y="3573360"/>
            <a:ext cx="383688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Teaching childr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71640" y="620640"/>
            <a:ext cx="784836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00cc"/>
                </a:solidFill>
                <a:latin typeface="Arial"/>
              </a:rPr>
              <a:t>Complete the sentences using words and phrases from the passag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1855800"/>
            <a:ext cx="842472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The panda _______ at the Chengdu Research Base are awake very early in the morning to _______ breakfast for the baby panda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74320" y="1955880"/>
            <a:ext cx="1595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ff"/>
                </a:solidFill>
                <a:latin typeface="Times New Roman"/>
              </a:rPr>
              <a:t>keepe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97360" y="3179880"/>
            <a:ext cx="16437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ff"/>
                </a:solidFill>
                <a:latin typeface="Times New Roman"/>
              </a:rPr>
              <a:t>prepar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4354560"/>
            <a:ext cx="8459640" cy="19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2. Adult pandas do not have babies very ____, and some of the babies only live for a short time because of _______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29800" y="5084640"/>
            <a:ext cx="1114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ff"/>
                </a:solidFill>
                <a:latin typeface="Times New Roman"/>
              </a:rPr>
              <a:t>oft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51600" y="5699160"/>
            <a:ext cx="1668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ff"/>
                </a:solidFill>
                <a:latin typeface="Times New Roman"/>
              </a:rPr>
              <a:t>illness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2360" y="765000"/>
            <a:ext cx="647640" cy="648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2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5120" y="193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0520" y="0"/>
            <a:ext cx="192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ask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9280" y="2276640"/>
            <a:ext cx="86407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4. A special program in Chengdu teaches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_______ about why pandas are __________ and how to save them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74520" y="2962440"/>
            <a:ext cx="2338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ff"/>
                </a:solidFill>
                <a:latin typeface="Times New Roman"/>
              </a:rPr>
              <a:t>endanger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2360" y="4005360"/>
            <a:ext cx="8353440" cy="24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5. The __________________ is also helping to save the pandas. It’s _______________ more trees to make more homes for the panda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76360" y="4076640"/>
            <a:ext cx="3957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ff"/>
                </a:solidFill>
                <a:latin typeface="Times New Roman"/>
              </a:rPr>
              <a:t>Chinese governm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03640" y="4691160"/>
            <a:ext cx="3598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ff"/>
                </a:solidFill>
                <a:latin typeface="Times New Roman"/>
              </a:rPr>
              <a:t>necessary to plant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2360" y="471600"/>
            <a:ext cx="86407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3. Another reason for fewer and fewer pandas is because people are cutting down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____ so pandas have fewer places to liv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6880" y="1739880"/>
            <a:ext cx="10677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ff"/>
                </a:solidFill>
                <a:latin typeface="Times New Roman"/>
              </a:rPr>
              <a:t>tre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2720" y="2963880"/>
            <a:ext cx="1800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ff"/>
                </a:solidFill>
                <a:latin typeface="Times New Roman"/>
              </a:rPr>
              <a:t>childr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914560" y="476280"/>
            <a:ext cx="3456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3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Discussion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03280" y="1413000"/>
            <a:ext cx="669600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Discuss what other ways you think children can help to save the pand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1628640"/>
            <a:ext cx="718920" cy="7905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4211640" y="3805200"/>
            <a:ext cx="3743280" cy="2604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1282680" y="3645000"/>
            <a:ext cx="2711520" cy="2824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03120" y="482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7440" y="620640"/>
            <a:ext cx="176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ask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10920" y="1485720"/>
            <a:ext cx="8064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At birth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, a baby panda is about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birth 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v.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出生 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at birth  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出生时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e.g. Man’s nature 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at birth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 is good.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人之初，性本善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ff"/>
                </a:solidFill>
                <a:latin typeface="Times New Roman"/>
              </a:rPr>
              <a:t>give birth to… </a:t>
            </a:r>
            <a:r>
              <a:rPr b="1" lang="zh-CN" sz="3400" spc="-1" strike="noStrike">
                <a:solidFill>
                  <a:srgbClr val="0066ff"/>
                </a:solidFill>
                <a:latin typeface="Times New Roman"/>
              </a:rPr>
              <a:t>生（孩子）；产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e.g. My aunt </a:t>
            </a:r>
            <a:r>
              <a:rPr b="1" lang="en-US" sz="3400" spc="-1" strike="noStrike">
                <a:solidFill>
                  <a:srgbClr val="0066ff"/>
                </a:solidFill>
                <a:latin typeface="Times New Roman"/>
              </a:rPr>
              <a:t>gave birth to 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a beautiful baby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girl yesterday.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昨天我婶婶生下一个漂亮的小女孩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195640" y="404640"/>
            <a:ext cx="45370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9933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Language points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9933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1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01560" y="106380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A panda can liv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up t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20 to 30 yea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up to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到达（数量，程度等）；不多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.g. In some area of Africa, children g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ducated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up t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2 years 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非洲的一些地区，孩子最多受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育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0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…they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un ove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with excitement and some of them even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alk int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heir friends and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all ove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un over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跑上前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over  </a:t>
            </a:r>
            <a:r>
              <a:rPr b="1" i="1" lang="en-US" sz="3600" spc="-1" strike="noStrike">
                <a:solidFill>
                  <a:srgbClr val="0066ff"/>
                </a:solidFill>
                <a:latin typeface="Times New Roman"/>
              </a:rPr>
              <a:t>adv.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穿越；从……的一边到另一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.g. Sh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an ove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o say hello, but 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dn’t recognize 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她跑过来打招呼，但我没有认出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4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7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95280" y="105372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alk into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（走路时意外）撞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.g. As he was thinking too deeply and not playing attention to where he was going, h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alke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straight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into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tr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由于他陷入深思，没有注意看路，径直撞到了一棵树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all over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摔倒；倒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.g. Don’t run too fast, or you might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al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ve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别跑的太快，要不你会摔跤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fall over something   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被某物绊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.g. Tommy </a:t>
            </a: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fell over the do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nd brok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is front tee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mmy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被那只狗绊了一跤，磕断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门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7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3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6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2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280360" cy="61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1360" indent="0">
              <a:lnSpc>
                <a:spcPct val="130000"/>
              </a:lnSpc>
              <a:buNone/>
              <a:tabLst>
                <a:tab algn="l" pos="0"/>
                <a:tab algn="l" pos="71604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4. Scientists say there are now fewer than 2,000 pandas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living in the remaining forests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41360" indent="0">
              <a:lnSpc>
                <a:spcPct val="130000"/>
              </a:lnSpc>
              <a:buNone/>
              <a:tabLst>
                <a:tab algn="l" pos="0"/>
                <a:tab algn="l" pos="71604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living in the remaining forests 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是一个现在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41360" indent="0">
              <a:lnSpc>
                <a:spcPct val="130000"/>
              </a:lnSpc>
              <a:buNone/>
              <a:tabLst>
                <a:tab algn="l" pos="0"/>
                <a:tab algn="l" pos="71604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分词短语，用做定语，修饰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pandas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41360" indent="0">
              <a:lnSpc>
                <a:spcPct val="130000"/>
              </a:lnSpc>
              <a:buNone/>
              <a:tabLst>
                <a:tab algn="l" pos="0"/>
                <a:tab algn="l" pos="71604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e.g. the girls singing under the tree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41360" indent="0">
              <a:lnSpc>
                <a:spcPct val="130000"/>
              </a:lnSpc>
              <a:buNone/>
              <a:tabLst>
                <a:tab algn="l" pos="0"/>
                <a:tab algn="l" pos="71604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树下唱歌的女孩们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41360" indent="0">
              <a:lnSpc>
                <a:spcPct val="130000"/>
              </a:lnSpc>
              <a:buNone/>
              <a:tabLst>
                <a:tab algn="l" pos="0"/>
                <a:tab algn="l" pos="71604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the women washing clothes by the riv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41360" indent="0">
              <a:lnSpc>
                <a:spcPct val="130000"/>
              </a:lnSpc>
              <a:buNone/>
              <a:tabLst>
                <a:tab algn="l" pos="0"/>
                <a:tab algn="l" pos="71604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河边洗衣服的女人们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2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5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8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some students to read their conversations about pan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771640" y="1125360"/>
            <a:ext cx="3672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Summary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7120" y="2529000"/>
            <a:ext cx="8147160" cy="20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   …times more than 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   Talk about how to protect pand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789200" y="2995560"/>
            <a:ext cx="551160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Read the article in 2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Preview :Try to collec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something about wh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641600" y="907920"/>
            <a:ext cx="5184720" cy="1887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actice students’ reading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ching 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some students to read their li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the preview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35600" y="1476360"/>
            <a:ext cx="736488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Talk about pandas in your clas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Use these words to help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916360" y="549360"/>
            <a:ext cx="324000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996633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Reading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99"/>
                  </a:gs>
                  <a:gs pos="100000">
                    <a:srgbClr val="996633"/>
                  </a:gs>
                </a:gsLst>
                <a:lin ang="54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1700280"/>
            <a:ext cx="720720" cy="7207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16000" y="3141720"/>
            <a:ext cx="6912000" cy="2946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g,     bamboo,     zoo,     popular,    cute,    black and white,    Sichuan,  famous,    endangered,    beautiful,   forest,     prot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0000" y="318960"/>
            <a:ext cx="192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as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44640"/>
            <a:ext cx="86821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050920" y="981000"/>
            <a:ext cx="4824720" cy="15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6633"/>
                    </a:gs>
                    <a:gs pos="100000">
                      <a:srgbClr val="ff99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阅读策略：</a:t>
            </a: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6633"/>
                    </a:gs>
                    <a:gs pos="100000">
                      <a:srgbClr val="ff99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Scanning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6633"/>
                  </a:gs>
                  <a:gs pos="100000">
                    <a:srgbClr val="ff99cc"/>
                  </a:gs>
                </a:gsLst>
                <a:lin ang="54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47640" y="2781360"/>
            <a:ext cx="597708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This means moving your eyes quickly down the page to find specific inform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85920" y="331920"/>
            <a:ext cx="83628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略读时，只需读每一段第一句话（较长的段落，读前两句）。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第一句话常是整段讨论的主题。在结论段，重点可能在最后一句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阅读时，把文本标出来，是帮助回答问题好方法。可将关键词画线或在段落旁写下本段主题，一两个字就够了，关键在于涵盖全文的速度。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 略读时遇到不懂单词，试观察前后字来猜出意思。比如，在不懂的单字前面是形容词，那么这个字可能会是名词；在不懂的单字之前是副词，那么这个字可能会是动词。只要了解段落大意就好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81440" y="1403280"/>
            <a:ext cx="604800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Scan the article to find ou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what these numbers me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7800" y="3583080"/>
            <a:ext cx="6238800" cy="807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10,          12,          200,        2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71640" y="1628640"/>
            <a:ext cx="720720" cy="7207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2200" y="770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0520" y="333360"/>
            <a:ext cx="192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as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334880" y="549360"/>
            <a:ext cx="7137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Scan the article again and wri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short answers to the ques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42800" y="1874880"/>
            <a:ext cx="538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Lin Wei’s job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32000" y="3027240"/>
            <a:ext cx="71276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What do the baby pandas eat 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reakfast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89280" y="4976640"/>
            <a:ext cx="69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What do adult pandas eat?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36360" y="2451240"/>
            <a:ext cx="339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A panda keep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7440" y="440208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Mil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23400" y="5589720"/>
            <a:ext cx="209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Bambo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1197000"/>
            <a:ext cx="720720" cy="7207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3480" y="122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0520" y="0"/>
            <a:ext cx="192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ask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1:12:35Z</dcterms:created>
  <dc:creator>Administrator</dc:creator>
  <dc:description/>
  <dc:language>en-US</dc:language>
  <cp:lastModifiedBy/>
  <dcterms:modified xsi:type="dcterms:W3CDTF">2015-04-06T09:17:25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